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BEF8-8F0B-4FA4-94F7-18009BA9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494A-FE31-445E-A2CC-0F7C90F8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4E8F-9122-402C-99B7-14A6A1951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97CF-8E80-4392-9B0E-144745B81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3459-1A3C-4E9E-AABB-BCF389F4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FBA7-ABFC-4FCB-AB8A-27657586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4F0B-93A3-4F60-88E5-59CC54C9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3BCA-8969-45BE-BF9C-65675824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7277-CD19-4428-9CD8-7DD4C511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2F05-795A-4C0D-9877-17D54627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A0E5-7B0B-4BBF-9A00-D8252C14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AB35-86A7-45D7-BD5F-C2308D81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729C-BC74-4B11-AB5B-46695B65D6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v.rds.yahoo.com/_ylt=A9ibyKxC_0RFUHoAoIGHBqMX;_ylu=X3oDMTBwanIybjRqBHBndANhdHdfaW1nX3Jlc3VsdARzZWMDc3I-/SIG=127ibrs64/EXP=1162236098/**http%3A//idata.over-blog.com/0/00/74/35/france-tv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av.rds.yahoo.com/_ylt=A9ibyJ9s_0RF4mUAyBWHBqMX;_ylu=X3oDMTBwanIybjRqBHBndANhdHdfaW1nX3Jlc3VsdARzZWMDc3I-/SIG=12d9tftbc/EXP=1162236140/**http%3A//www.stopinfos.com/images/france/media_tf1_logo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france2.fr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rance3.fr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rance5.fr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rte.tv/fr/70.html" TargetMode="External"/><Relationship Id="rId2" Type="http://schemas.openxmlformats.org/officeDocument/2006/relationships/image" Target="../media/image6.png"/><Relationship Id="rId3" Type="http://schemas.openxmlformats.org/officeDocument/2006/relationships/hyperlink" Target="http://images.google.fr/imgres?imgurl=http://www.mdsf.org/Television/files/page35_5.png&amp;imgrefurl=http://www.mdsf.org/Television/Television.html&amp;h=200&amp;w=300&amp;sz=11&amp;hl=fr&amp;start=29&amp;tbnid=SAVOnOZasGBToM:&amp;tbnh=77&amp;tbnw=116&amp;prev=/images%3Fq%3Darte%2Btelevision%26start%3D20%26ndsp%3D20%26svnum%3D10%26hl%3Dfr%26lr%3D%26safe%3Doff%26sa%3DN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6.fr/" TargetMode="External"/><Relationship Id="rId2" Type="http://schemas.openxmlformats.org/officeDocument/2006/relationships/image" Target="../media/image8.png"/><Relationship Id="rId3" Type="http://schemas.openxmlformats.org/officeDocument/2006/relationships/hyperlink" Target="http://images.google.fr/imgres?imgurl=http://www.mdsf.org/Television/files/page35_6.gif&amp;imgrefurl=http://www.mdsf.org/Television/Television.html&amp;h=200&amp;w=300&amp;sz=4&amp;hl=fr&amp;start=14&amp;tbnid=Teq-1mQr18tD3M:&amp;tbnh=77&amp;tbnw=116&amp;prev=/images%3Fq%3DM6%2Btelevision%26svnum%3D10%26hl%3Dfr%26lr%3D%26safe%3Doff%26sa%3D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fr/imgres?imgurl=http://media.canal-plus.com/image/72/8/45728.gif&amp;imgrefurl=http://www.canalplus.fr/pid5.htm&amp;h=146&amp;w=195&amp;sz=6&amp;hl=fr&amp;start=9&amp;tbnid=E-v2mtuPlReo6M:&amp;tbnh=78&amp;tbnw=104&amp;prev=/images%3Fq%3DCanal%2Bplus%26svnum%3D10%26hl%3Dfr%26lr%3D%26safe%3Doff%26sa%3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 Télévision en F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.P.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ipon Grammar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élé satellite et câblé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alsatel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nnement mensuel nécess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NT (Télévision Numérique Terrest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pics_big_strong_dish"/>
          <p:cNvPicPr/>
          <p:nvPr/>
        </p:nvPicPr>
        <p:blipFill>
          <a:blip r:embed="rId1"/>
          <a:stretch/>
        </p:blipFill>
        <p:spPr>
          <a:xfrm>
            <a:off x="5076720" y="1341360"/>
            <a:ext cx="1584360" cy="1317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logo-tnt"/>
          <p:cNvPicPr/>
          <p:nvPr/>
        </p:nvPicPr>
        <p:blipFill>
          <a:blip r:embed="rId2"/>
          <a:stretch/>
        </p:blipFill>
        <p:spPr>
          <a:xfrm>
            <a:off x="2987640" y="3645000"/>
            <a:ext cx="273672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’avenir de la télé en F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peut déjà regarder certaines émissions sur demande sur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 télévision analogique n’existera plus après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t-ce que la télévision traditionnelle existera dans 30 a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 télé haute définition deviendra la nor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n’achètera que des téléviseurs plasma et L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ocabulaire ut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e émission – programme                  en direct - l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e série – seri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en différé - recor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e émission comique – comedy         une rediffusion - repea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 journal – TV new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un jeu – game s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 météo – weather                              animé par – present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 publicité (la pub) – adverts               réalisé par – direct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 magazine –talk show with audience and g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 documentaire – documen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e sitcom – sitcom (par exemple Frie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 dessin animé – cartoon                   un téléfilm – TV mov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 débat – discussion programme       un feuilleton – soap op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 reality-show – reality s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s chaînes princip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Chaînes terrestres (hertzien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F1  - chaîne privée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2 – chaîne publ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3 – chaîne publ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5 – chaîne publ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te – chaîne privée franco-allema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6 – chaîne priv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278136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F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 chaîne la plus regard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ée par la public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vertissements de toutes sor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o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ms popul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é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3645000"/>
            <a:ext cx="266400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îne publique financées par la redevance et la public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vertissements de toutes sor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orts vari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é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ms popul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ogo_f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4149720"/>
            <a:ext cx="319248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îne publique financée par la redevance et la public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issions plus cultur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issions rég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s nationales et rég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ms plus cultur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vertiss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logo_f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4724280"/>
            <a:ext cx="297648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îne publique avec une mission éduc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issions éducatives et cultur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issions pour l’éc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usée le jour seu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Aller a la home de France 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4724280"/>
            <a:ext cx="340812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r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îne franco-allema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usée le soir seu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issions culturelles pour un public li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éb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cument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erts de musique class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èces de théâ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5164,property=dat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2190960" cy="514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page35_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43640" y="1700280"/>
            <a:ext cx="14414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6 = Métro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issions populaires pour un public je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s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éries américaines doubl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ms popul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cument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p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2124000" cy="990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page35_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4292640"/>
            <a:ext cx="22320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nal 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îne privée qui demande un abonnement mens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aucoup de s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aucoup de foo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ms réc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écodeur nécess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4572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2781360"/>
            <a:ext cx="237672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18:59:31Z</dcterms:created>
  <dc:creator>Smith</dc:creator>
  <dc:description/>
  <dc:language>en-US</dc:language>
  <cp:lastModifiedBy>Nicolas</cp:lastModifiedBy>
  <dcterms:modified xsi:type="dcterms:W3CDTF">2010-03-09T23:25:30Z</dcterms:modified>
  <cp:revision>6</cp:revision>
  <dc:subject/>
  <dc:title>La Télévision en France</dc:title>
</cp:coreProperties>
</file>